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9550-B9D4-409D-9836-918DC3602D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D6FD-1228-4532-BB77-51F319BDC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474-F04C-4B47-9257-D181F0D4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0D0-873A-41E9-8BC4-C977EEA8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8CE-1EB0-4651-A253-F0A81CFD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991-ED50-4214-82BE-905D774C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2EB4-C495-4C06-9C4D-E433BEAA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E672-08D5-47EC-916D-593C241A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4F47-3E91-4D4C-B4BC-4048280A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4550-232D-4157-BA56-6B3D587C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617F-893E-4769-91BE-EC78171F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730A-FE53-4AA6-9959-A6C5F96A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ABFE-F60E-4583-862E-DC89392E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C20-EB3F-43DD-9822-0CDA06EA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B2F0-CC24-4F09-9783-F2477EF0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4A2F-9DAC-4CC6-A81F-1E294D84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A862-9618-42A8-91C9-3E1056A6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F3BA-AF43-48CC-B4B7-A254E7A6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06A5-E01B-425C-AC33-4883F695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96C5-349D-42A7-A344-8C97C572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738FB-139E-437A-81C7-AE339889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7549-BF9F-409C-9750-834254F4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D1C4-32D1-436F-8D76-F4EDA21B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ED490-70E2-4CDE-AC02-1592AE39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004-52B3-46E2-B77C-6DA84BA5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0FAC-AEA9-4CA0-8509-855D727E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88F3-2579-4492-98EE-FBE4443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01F7-1DA7-4C62-A530-74C8EA15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7110-47D7-43ED-886D-5E386477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1E9D-05D0-42FE-9D6D-DE430914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DF2D-DA94-4162-9E38-23427EEE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7381-82EE-447F-B9A3-DECFC5DD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F577A-C8CE-434D-865C-422C8FA4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98BDA-9FE0-4584-AA6B-F77005C1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1D913-1B94-4359-93BF-53196B8D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D1B-0F92-4B29-BCF5-F5277820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9AD1B-D663-4149-8C15-F7EF2966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07026-9521-4EC1-BFC2-8F9FEEE6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9C191-6ABE-4FAB-9CF8-61C268D1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7DDAF-A4A1-4D7D-A1B2-7DF27391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C8202-7530-4EB7-9472-30159B61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530D1-A613-4013-8E18-026477E5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05071-05C0-4788-BC82-425FF10A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753EA-1ECF-4221-9770-B17EFF5A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E50B3-265C-425A-97E8-9AD9BCF6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B1195-9237-4614-AE42-8A1452CD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5A1-1A7E-412B-84F5-F2CF9951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017E5-2579-4118-B1C4-804ACE9D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164FB-C7CF-4FBB-A93E-9073C3BA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E07E3-998A-4EDB-BEA7-41C882EC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4FCD8-D270-4204-AB74-A6869C4E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40634-0C26-4028-BA74-CE49752C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F645C-6A57-4085-9BC9-C1BD867F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5819E-08C9-4C53-82BA-59E9C35A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918AD-6F55-443F-B055-407F0A17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CDF3A-51D8-4392-BB58-5721A7E0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D4478-175E-4397-972F-E6917FDF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554-0D5E-48DD-9892-8749F626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475B9-9046-422E-9219-CAEC3294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B8B-C486-4652-BD2A-1411F410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AA6-5C26-48C9-8A79-3D71A505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7C1-5E35-431E-9017-DEAA408E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C40A-538E-466D-AD9A-274919C6DC6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FCB3-836C-4750-A326-2AEE2C5DA81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FD1F-D768-4695-A2CD-DB3A8DB6E6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74CD-BB06-4C6E-91C7-85E19175826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B249-0219-421A-97F8-EF8ED7D9718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2719440" y="228600"/>
            <a:ext cx="37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МБОУ "СОШ №5» МО «ЛМР»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193920" y="1143000"/>
            <a:ext cx="2756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АЯ ПИЦ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C:\Users\HP\Desktop\Pizza-vector-clipart.png"/>
          <p:cNvPicPr/>
          <p:nvPr/>
        </p:nvPicPr>
        <p:blipFill>
          <a:blip r:embed="rId1"/>
          <a:stretch/>
        </p:blipFill>
        <p:spPr>
          <a:xfrm>
            <a:off x="2590920" y="2438280"/>
            <a:ext cx="4010040" cy="23814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2286000" y="502128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 учитель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е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ajedrez-6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371600" y="914400"/>
            <a:ext cx="7162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КРУЖАЮЩИЙ МИ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россворды, загад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304920" y="1219320"/>
            <a:ext cx="39304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Fol03wVIgC-1280x720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учение грамот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423360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Буква Г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А буквой «Г» - так шахматисты говорят   (Конь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рыгнет Конь. Подковы звяк!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еобычен каждый шаг: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Буква «Г» и так и сяк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олучается зигзаг!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409720" y="579600"/>
            <a:ext cx="31734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ногознач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304920" y="1905120"/>
            <a:ext cx="3352680" cy="1858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1371600" cy="952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5"/>
          <p:cNvPicPr/>
          <p:nvPr/>
        </p:nvPicPr>
        <p:blipFill>
          <a:blip r:embed="rId4"/>
          <a:stretch/>
        </p:blipFill>
        <p:spPr>
          <a:xfrm>
            <a:off x="8458200" y="1600200"/>
            <a:ext cx="202572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5"/>
          <a:stretch/>
        </p:blipFill>
        <p:spPr>
          <a:xfrm>
            <a:off x="6248520" y="2666880"/>
            <a:ext cx="1247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рафический диктан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Одна клеточка вправо – поставьте начальную точку,1 – вправо, 1 – вниз, 1 – вправо, 1 – вверх, 1 – вправо, 1 – вниз, 1 – вправо, 1 – вверх, 1 –вправо, 3 – вниз, 1 – влево, 4 – вниз, 1 – вправо, 2 – вниз, 5 – влево, 2 – вверх, 1 – вправо, 4 – вверх, 1 – влево, 3 – вверх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908600" y="1828800"/>
            <a:ext cx="3628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5c00"/>
                </a:solidFill>
                <a:latin typeface="Verdana"/>
              </a:rPr>
              <a:t>Литературное чт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782800" y="2516040"/>
          <a:ext cx="3578400" cy="1825920"/>
        </p:xfrm>
        <a:graphic>
          <a:graphicData uri="http://schemas.openxmlformats.org/drawingml/2006/table">
            <a:tbl>
              <a:tblPr/>
              <a:tblGrid>
                <a:gridCol w="428760"/>
                <a:gridCol w="449280"/>
                <a:gridCol w="450720"/>
                <a:gridCol w="449280"/>
                <a:gridCol w="450720"/>
                <a:gridCol w="449280"/>
                <a:gridCol w="451080"/>
                <a:gridCol w="449280"/>
              </a:tblGrid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5" name="Picture 4" descr="C:\Users\HP\Desktop\pizza-slices-clip-art-images-1024x567.jpg"/>
          <p:cNvPicPr/>
          <p:nvPr/>
        </p:nvPicPr>
        <p:blipFill>
          <a:blip r:embed="rId1"/>
          <a:stretch/>
        </p:blipFill>
        <p:spPr>
          <a:xfrm>
            <a:off x="762120" y="838080"/>
            <a:ext cx="28033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7" name="Содержимое 4" descr=""/>
          <p:cNvPicPr/>
          <p:nvPr/>
        </p:nvPicPr>
        <p:blipFill>
          <a:blip r:embed="rId1"/>
          <a:stretch/>
        </p:blipFill>
        <p:spPr>
          <a:xfrm>
            <a:off x="506520" y="523800"/>
            <a:ext cx="3943080" cy="4402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найди словарные слова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обведи их красным цвето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спиши слова в тетрадь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обменяйтесь тетрадями с соседом по плеч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проверь сосед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838080" y="1981080"/>
            <a:ext cx="28036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ЗО,ТЕХНОЛОГ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зор в полос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зор в квадра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иммет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819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ЯТНОГО АППЕТИТА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140080" cy="31082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1295280" y="914040"/>
            <a:ext cx="3322800" cy="4465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2" descr="C:\Users\HP\Desktop\Pizza-vector-clipart.png"/>
          <p:cNvPicPr/>
          <p:nvPr/>
        </p:nvPicPr>
        <p:blipFill>
          <a:blip r:embed="rId2"/>
          <a:stretch/>
        </p:blipFill>
        <p:spPr>
          <a:xfrm>
            <a:off x="6103800" y="3657600"/>
            <a:ext cx="3040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304920" y="152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в шахматы вырабатывает в человеке целеустремленность, волю, выносливость, терпение, способность к концентрации внимания, смелость, расчет, умение быстро и правильно принимать решения в меняющейся обстан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304920" y="45720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й во всем мире шахматист А.Алехин писа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Шахматы не только знание и логика, но и глубокая фантазия. Посредством шахмат я воспитал свой характер. Шахматы не просто модель жизни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дель творчества. Шахматы, прежде всего, учат быть объективными. В шахматах можно сделаться большим мастером, лишь осознав свои ошибки и недостатки. Совершенно также как и в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6" name="Группа 2"/>
          <p:cNvGrpSpPr/>
          <p:nvPr/>
        </p:nvGrpSpPr>
        <p:grpSpPr>
          <a:xfrm>
            <a:off x="762120" y="457200"/>
            <a:ext cx="7543800" cy="5486400"/>
            <a:chOff x="762120" y="457200"/>
            <a:chExt cx="7543800" cy="5486400"/>
          </a:xfrm>
        </p:grpSpPr>
        <p:pic>
          <p:nvPicPr>
            <p:cNvPr id="237" name="Рисунок 24" descr="&amp;Fcy;&amp;ocy;&amp;tcy;&amp;ocy; 16"/>
            <p:cNvPicPr/>
            <p:nvPr/>
          </p:nvPicPr>
          <p:blipFill>
            <a:blip r:embed="rId2"/>
            <a:stretch/>
          </p:blipFill>
          <p:spPr>
            <a:xfrm>
              <a:off x="762120" y="457200"/>
              <a:ext cx="75438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Прямоугольник 4"/>
            <p:cNvSpPr/>
            <p:nvPr/>
          </p:nvSpPr>
          <p:spPr>
            <a:xfrm>
              <a:off x="894600" y="5315040"/>
              <a:ext cx="307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tp://www.kraskidetstva.ru/akcii1/zhivi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ДОБРО ПОЖАЛОВАТЬ!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1" name="Picture 2" descr="C:\Users\HP\Desktop\Pizza-vector-clipart.png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438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HP\Desktop\Pizza-vector-clipart.png"/>
          <p:cNvPicPr/>
          <p:nvPr/>
        </p:nvPicPr>
        <p:blipFill>
          <a:blip r:embed="rId2"/>
          <a:stretch/>
        </p:blipFill>
        <p:spPr>
          <a:xfrm>
            <a:off x="2666880" y="4038480"/>
            <a:ext cx="4106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3000" y="579240"/>
            <a:ext cx="3930480" cy="15541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Давайте вспомним ценность шахматных фигур и вспомним состав чисел: 7, 13,9,15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Ладья – 5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Конь – 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Слон – 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Ферзь – 9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ешка – 1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C:\Users\HP\Desktop\pkc86jirG.jpg"/>
          <p:cNvPicPr/>
          <p:nvPr/>
        </p:nvPicPr>
        <p:blipFill>
          <a:blip r:embed="rId1"/>
          <a:stretch/>
        </p:blipFill>
        <p:spPr>
          <a:xfrm>
            <a:off x="533520" y="2971800"/>
            <a:ext cx="393048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9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3429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09480" y="579240"/>
            <a:ext cx="7974000" cy="15541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"Симметрия.Ось симметрии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Содержимое 8" descr="https://arhivurokov.ru/kopilka/uploads/user_file_566a958be11f1/user_file_566a958be11f1_1_4.png"/>
          <p:cNvPicPr/>
          <p:nvPr/>
        </p:nvPicPr>
        <p:blipFill>
          <a:blip r:embed="rId1"/>
          <a:stretch/>
        </p:blipFill>
        <p:spPr>
          <a:xfrm>
            <a:off x="5189400" y="2406600"/>
            <a:ext cx="2857680" cy="157176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11" descr="https://arhivurokov.ru/kopilka/up/html/2017/05/11/k_5913dbdf638f8/414323_11.png"/>
          <p:cNvPicPr/>
          <p:nvPr/>
        </p:nvPicPr>
        <p:blipFill>
          <a:blip r:embed="rId2"/>
          <a:stretch/>
        </p:blipFill>
        <p:spPr>
          <a:xfrm>
            <a:off x="1066680" y="2590920"/>
            <a:ext cx="21639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i2"/>
          <p:cNvPicPr/>
          <p:nvPr/>
        </p:nvPicPr>
        <p:blipFill>
          <a:blip r:embed="rId2"/>
          <a:stretch/>
        </p:blipFill>
        <p:spPr>
          <a:xfrm>
            <a:off x="1981080" y="990720"/>
            <a:ext cx="5181840" cy="51051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1219320" y="6019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ахматная до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– 2 =    4 (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– 2 =   2  (Ч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+ 3 =    10 (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– 5 =   3   (Р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+ 1 =   8   (Г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+ 2 =  5    (У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– 2 =  6    (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53000" y="1069920"/>
          <a:ext cx="3930480" cy="1119240"/>
        </p:xfrm>
        <a:graphic>
          <a:graphicData uri="http://schemas.openxmlformats.org/drawingml/2006/table">
            <a:tbl>
              <a:tblPr/>
              <a:tblGrid>
                <a:gridCol w="436680"/>
                <a:gridCol w="334800"/>
                <a:gridCol w="538200"/>
                <a:gridCol w="436680"/>
                <a:gridCol w="438120"/>
                <a:gridCol w="436320"/>
                <a:gridCol w="436680"/>
                <a:gridCol w="436680"/>
                <a:gridCol w="436320"/>
              </a:tblGrid>
              <a:tr h="75096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82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61" name="Picture 2" descr="http://content.foto.mail.ru/mail/hg.bambus/14/h-62.jpg"/>
          <p:cNvPicPr/>
          <p:nvPr/>
        </p:nvPicPr>
        <p:blipFill>
          <a:blip r:embed="rId1"/>
          <a:stretch/>
        </p:blipFill>
        <p:spPr>
          <a:xfrm>
            <a:off x="5181480" y="2514600"/>
            <a:ext cx="2971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18-03-25T10:28:4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